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13.png" ContentType="image/png"/>
  <Override PartName="/ppt/media/image17.gif" ContentType="image/gif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F94-0DBD-4FA3-8543-75A25675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2CF-55E0-4C3A-B9BD-2665408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57D-2F84-4F44-8A7A-36E88C7C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A81-DCC4-40FA-A610-23AEE9AA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4ACB-362A-414C-9DDF-92EED332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EC1-0743-4A9B-B39E-A3DBB5A0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B1BD-AFD8-4B36-8B06-FAAB2CF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506-675A-4618-A0F3-CFCB47C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AD24-7DC7-4A9E-9941-12A6B16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F38-4229-4D23-B80E-C247DB9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17CC-0F67-43E4-8829-60B2D0E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41A-D15B-4B4E-83AC-0D13FAB0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FCF-8F63-48D9-A4BD-BEDB183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7F3-A9BD-4D73-8F5C-4C52D39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EC8C-CEDC-47F1-AE05-E6E7ADF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9E87-245E-4E89-968C-F1AB6C2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A89E-D94F-451D-885C-B2A2514E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573-0FBC-4F3E-BC8A-3E3CCFE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0E-0AB1-41CC-A854-CCA060D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042-5EDE-49B9-A040-39D93A6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D8F-E56A-468E-80DC-21EBFD2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BE0-F2C8-4F03-9EED-549E4D4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254-BA25-4C67-8797-327283F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3E0-244C-4276-99E9-DE3D050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F4E-4544-4CFC-B496-64B172CF08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7204-2ADD-4ABB-A617-0EB2D88761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16foto6_116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 rot="20788200">
            <a:off x="1294920" y="990360"/>
            <a:ext cx="503712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.Омутское , МКОУ «Омут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ител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Литвинова Оксана 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езентация к  уроку русского языка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«Имя существительное. Род, число и склонение имен существитель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3" descr="black kitten.gif"/>
          <p:cNvPicPr/>
          <p:nvPr/>
        </p:nvPicPr>
        <p:blipFill>
          <a:blip r:embed="rId1"/>
          <a:stretch/>
        </p:blipFill>
        <p:spPr>
          <a:xfrm>
            <a:off x="1643040" y="3500280"/>
            <a:ext cx="1095480" cy="271476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black kitten.gif"/>
          <p:cNvPicPr/>
          <p:nvPr/>
        </p:nvPicPr>
        <p:blipFill>
          <a:blip r:embed="rId2"/>
          <a:stretch/>
        </p:blipFill>
        <p:spPr>
          <a:xfrm>
            <a:off x="6477120" y="3657600"/>
            <a:ext cx="1095120" cy="271476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3" descr="black kitten.gif"/>
          <p:cNvPicPr/>
          <p:nvPr/>
        </p:nvPicPr>
        <p:blipFill>
          <a:blip r:embed="rId3"/>
          <a:stretch/>
        </p:blipFill>
        <p:spPr>
          <a:xfrm>
            <a:off x="4343400" y="2209680"/>
            <a:ext cx="865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6" descr=""/>
          <p:cNvPicPr/>
          <p:nvPr/>
        </p:nvPicPr>
        <p:blipFill>
          <a:blip r:embed="rId4"/>
          <a:stretch/>
        </p:blipFill>
        <p:spPr>
          <a:xfrm>
            <a:off x="1096920" y="530280"/>
            <a:ext cx="7845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ая фамилия (ж.р.,1скл.), избиратель-ный бюллетень (м.р., 2 скл.), яблочное повид-ло (ср.р., 2 скл.), грузов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кс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р.р.), ста-ринный рояль (м.р., 2 скл.), заказная бан-дероль (ж.р., 3 скл.), запасной путь (м.р., разноскл.), горячи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ф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.р.), авторитетн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ю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р.р.), военны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тташ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м.р.),извест-ны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эстро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р.), черный лебедь(м.р.,2 скл.), полевая мышь (ж.р., 3 скл.), шелков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ш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р.р.), новый шампунь (м.р., 2 ск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826920" y="476280"/>
            <a:ext cx="78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Monotype Corsiva"/>
                <a:ea typeface="Arial"/>
              </a:rPr>
              <a:t>Самопров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382760" y="1700280"/>
            <a:ext cx="77612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альто, воротник, карман, рукав, пла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Monotype Corsiva"/>
              </a:rPr>
              <a:t>Пальто – несклоняемое существитель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826920" y="476280"/>
            <a:ext cx="78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  <a:ea typeface="Arial"/>
              </a:rPr>
              <a:t>Найди лишнее существительное</a:t>
            </a:r>
            <a:r>
              <a:rPr b="0" lang="ru-RU" sz="4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1258920" y="1600200"/>
            <a:ext cx="66261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H:\картинки\052A.gif"/>
          <p:cNvPicPr/>
          <p:nvPr/>
        </p:nvPicPr>
        <p:blipFill>
          <a:blip r:embed="rId2"/>
          <a:stretch/>
        </p:blipFill>
        <p:spPr>
          <a:xfrm>
            <a:off x="6781680" y="4648320"/>
            <a:ext cx="1895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  <a:ea typeface="Arial"/>
              </a:rPr>
              <a:t>К данным существительным подберите антонимы, относящиеся к другому скло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рудолюб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дость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льз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ож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Заголовок 1"/>
          <p:cNvSpPr/>
          <p:nvPr/>
        </p:nvSpPr>
        <p:spPr>
          <a:xfrm>
            <a:off x="1295280" y="838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Рисунок16"/>
          <p:cNvPicPr/>
          <p:nvPr/>
        </p:nvPicPr>
        <p:blipFill>
          <a:blip r:embed="rId2"/>
          <a:stretch/>
        </p:blipFill>
        <p:spPr>
          <a:xfrm>
            <a:off x="609480" y="464832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26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  <a:ea typeface="Arial"/>
              </a:rPr>
              <a:t>К данным существительным подберите антонимы, относящиеся к другому скло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рудолюбие - 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дость - зл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льза - вр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ожь- прав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1295280" y="838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2"/>
          <p:cNvPicPr/>
          <p:nvPr/>
        </p:nvPicPr>
        <p:blipFill>
          <a:blip r:embed="rId2"/>
          <a:stretch/>
        </p:blipFill>
        <p:spPr>
          <a:xfrm>
            <a:off x="7696080" y="380880"/>
            <a:ext cx="1008360" cy="895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Рисунок16"/>
          <p:cNvPicPr/>
          <p:nvPr/>
        </p:nvPicPr>
        <p:blipFill>
          <a:blip r:embed="rId3"/>
          <a:stretch/>
        </p:blipFill>
        <p:spPr>
          <a:xfrm>
            <a:off x="609480" y="464832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Я в ужасном положении. Мой корабль потерпел крушение. Я оказался на необитаемом острове в океан</a:t>
            </a:r>
            <a:r>
              <a:rPr b="0" lang="ru-RU" sz="4400" spc="-1" strike="noStrike">
                <a:solidFill>
                  <a:srgbClr val="800000"/>
                </a:solidFill>
                <a:latin typeface="Monotype Corsiva"/>
              </a:rPr>
              <a:t>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Смека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У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Стро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Вы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У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Кораб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Возв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7c"/>
                </a:solidFill>
                <a:latin typeface="Monotype Corsiva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1295280" y="838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H:\картинки\0006 (2).gif"/>
          <p:cNvPicPr/>
          <p:nvPr/>
        </p:nvPicPr>
        <p:blipFill>
          <a:blip r:embed="rId2"/>
          <a:stretch/>
        </p:blipFill>
        <p:spPr>
          <a:xfrm>
            <a:off x="457200" y="1752480"/>
            <a:ext cx="4208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116foto6_116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5" name="WordArt 5" descr=""/>
          <p:cNvPicPr/>
          <p:nvPr/>
        </p:nvPicPr>
        <p:blipFill>
          <a:blip r:embed="rId2"/>
          <a:stretch/>
        </p:blipFill>
        <p:spPr>
          <a:xfrm>
            <a:off x="1481040" y="853920"/>
            <a:ext cx="47484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16foto6_116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5" descr=""/>
          <p:cNvPicPr/>
          <p:nvPr/>
        </p:nvPicPr>
        <p:blipFill>
          <a:blip r:embed="rId2"/>
          <a:stretch/>
        </p:blipFill>
        <p:spPr>
          <a:xfrm>
            <a:off x="1481040" y="853920"/>
            <a:ext cx="47484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990720" y="457200"/>
            <a:ext cx="6686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alligraph"/>
              </a:rPr>
              <a:t> 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104" name="Picture 10" descr="Анимация воды,ручеёк"/>
          <p:cNvPicPr/>
          <p:nvPr/>
        </p:nvPicPr>
        <p:blipFill>
          <a:blip r:embed="rId2"/>
          <a:stretch/>
        </p:blipFill>
        <p:spPr>
          <a:xfrm>
            <a:off x="6019920" y="1371600"/>
            <a:ext cx="2457360" cy="170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ключи"/>
          <p:cNvPicPr/>
          <p:nvPr/>
        </p:nvPicPr>
        <p:blipFill>
          <a:blip r:embed="rId3"/>
          <a:stretch/>
        </p:blipFill>
        <p:spPr>
          <a:xfrm>
            <a:off x="6705720" y="3124080"/>
            <a:ext cx="1299960" cy="1335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Имя существитель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371600"/>
            <a:ext cx="53341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Явления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Процесс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32"/>
                </a:solidFill>
                <a:latin typeface="Monotype Corsiva"/>
              </a:rPr>
              <a:t>Животный и 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H:\Анимашки\Анимашки\дождь.gif"/>
          <p:cNvPicPr/>
          <p:nvPr/>
        </p:nvPicPr>
        <p:blipFill>
          <a:blip r:embed="rId4"/>
          <a:stretch/>
        </p:blipFill>
        <p:spPr>
          <a:xfrm>
            <a:off x="5562720" y="4343400"/>
            <a:ext cx="2962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6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Непостоянны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819520" y="15238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09480" y="2133720"/>
            <a:ext cx="1843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" y="30481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35680" y="3581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4114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80880" y="46483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267080" y="5334120"/>
            <a:ext cx="184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Схема 19" descr=""/>
          <p:cNvPicPr/>
          <p:nvPr/>
        </p:nvPicPr>
        <p:blipFill>
          <a:blip r:embed="rId2"/>
          <a:stretch/>
        </p:blipFill>
        <p:spPr>
          <a:xfrm>
            <a:off x="669960" y="1414440"/>
            <a:ext cx="7273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Непостоянны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Monotype Corsiva"/>
                <a:ea typeface="Aparajita"/>
              </a:rPr>
              <a:t>Существительные имеющие только форму единственн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Сме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Кра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Monotype Corsiva"/>
                <a:ea typeface="Aparajita"/>
              </a:rPr>
              <a:t>Существительные имеющие только форму множественн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c32"/>
                </a:solidFill>
                <a:latin typeface="Monotype Corsiva"/>
                <a:ea typeface="Aparajita"/>
              </a:rPr>
              <a:t>Кани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962520" y="157644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35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09480" y="25146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40000" y="29797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ligraph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6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Постоянны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17" descr=""/>
          <p:cNvPicPr/>
          <p:nvPr/>
        </p:nvPicPr>
        <p:blipFill>
          <a:blip r:embed="rId2"/>
          <a:stretch/>
        </p:blipFill>
        <p:spPr>
          <a:xfrm>
            <a:off x="438120" y="1378080"/>
            <a:ext cx="8267760" cy="4773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819520" y="15238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09480" y="2133720"/>
            <a:ext cx="1843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80880" y="30481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5680" y="3581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57200" y="4114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80880" y="46483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267080" y="5334120"/>
            <a:ext cx="184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Monotype Corsiva"/>
              </a:rPr>
              <a:t>3 типа скло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819520" y="15238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09480" y="2133720"/>
            <a:ext cx="1843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80880" y="30481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35680" y="3581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7200" y="4114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80880" y="46483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67080" y="5334120"/>
            <a:ext cx="184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2" descr=""/>
          <p:cNvPicPr/>
          <p:nvPr/>
        </p:nvPicPr>
        <p:blipFill>
          <a:blip r:embed="rId2"/>
          <a:stretch/>
        </p:blipFill>
        <p:spPr>
          <a:xfrm>
            <a:off x="407880" y="1596960"/>
            <a:ext cx="8328240" cy="4541760"/>
          </a:xfrm>
          <a:prstGeom prst="rect">
            <a:avLst/>
          </a:prstGeom>
          <a:ln w="0">
            <a:noFill/>
          </a:ln>
        </p:spPr>
      </p:pic>
      <p:sp>
        <p:nvSpPr>
          <p:cNvPr id="148" name="Блок-схема: процесс 18"/>
          <p:cNvSpPr/>
          <p:nvPr/>
        </p:nvSpPr>
        <p:spPr>
          <a:xfrm>
            <a:off x="7467480" y="5105520"/>
            <a:ext cx="381240" cy="457200"/>
          </a:xfrm>
          <a:prstGeom prst="flowChartProcess">
            <a:avLst/>
          </a:prstGeom>
          <a:solidFill>
            <a:srgbClr val="f3f6ff"/>
          </a:solidFill>
          <a:ln w="25560">
            <a:solidFill>
              <a:srgbClr val="b3b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процесс 20"/>
          <p:cNvSpPr/>
          <p:nvPr/>
        </p:nvSpPr>
        <p:spPr>
          <a:xfrm>
            <a:off x="3886200" y="5181480"/>
            <a:ext cx="380880" cy="457200"/>
          </a:xfrm>
          <a:prstGeom prst="flowChartProcess">
            <a:avLst/>
          </a:prstGeom>
          <a:solidFill>
            <a:srgbClr val="f3f6ff"/>
          </a:solidFill>
          <a:ln w="25560">
            <a:solidFill>
              <a:srgbClr val="b3b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  <a:ea typeface="Arial"/>
              </a:rPr>
              <a:t>Как определить склонение существитель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ределить 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ределить оконч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роду и окончанию определить с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1295280" y="838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2"/>
          <p:cNvPicPr/>
          <p:nvPr/>
        </p:nvPicPr>
        <p:blipFill>
          <a:blip r:embed="rId2"/>
          <a:stretch/>
        </p:blipFill>
        <p:spPr>
          <a:xfrm>
            <a:off x="7391520" y="609480"/>
            <a:ext cx="1008000" cy="89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 сентября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4191120"/>
            <a:ext cx="1608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Monotype Corsiva"/>
                <a:ea typeface="Arial"/>
              </a:rPr>
              <a:t>Как определить склонение существительного в косвенном падеж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ставить в начальную фор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ределить род и оконч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роду и окончанию определить с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Monotype Corsiva"/>
              </a:rPr>
              <a:t>Упр.195, стр.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1295280" y="8380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02"/>
          <p:cNvPicPr/>
          <p:nvPr/>
        </p:nvPicPr>
        <p:blipFill>
          <a:blip r:embed="rId2"/>
          <a:stretch/>
        </p:blipFill>
        <p:spPr>
          <a:xfrm>
            <a:off x="7696080" y="380880"/>
            <a:ext cx="1008360" cy="895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:\картинки\151.gif"/>
          <p:cNvPicPr/>
          <p:nvPr/>
        </p:nvPicPr>
        <p:blipFill>
          <a:blip r:embed="rId3"/>
          <a:stretch/>
        </p:blipFill>
        <p:spPr>
          <a:xfrm>
            <a:off x="762120" y="4267080"/>
            <a:ext cx="1912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12-03-01T16:40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