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b13f9a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dt" idx="13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A2244-CC3C-45B3-A00D-559331EDFE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5FF6B-C343-4ECC-AB1A-80FD127D0D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833F3-47F7-41EC-A19E-DCEFF2801D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A6CCB-9B82-48F7-ABE7-C74498E49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2D7F1-DB9C-44B7-B9AB-B3D0BF9CF5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60131-D972-421E-9AD5-8BE784D53B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0F00C-A515-4D21-BCE3-6014A06B7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8F182-A075-430E-9A29-C11B065B69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FF08E-7559-4792-A1E5-4A16FF1DD7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D3962-AE59-4315-99D1-9C16DD6115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4CC8A-0BFA-4B0D-AF9B-45BAD75620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8CAF6-2810-4D4B-A2B3-A0C7D523A8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E6703-2E9A-4F56-AC35-464240B4F4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8C684-4D35-4453-B323-6FA2C44739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E5168-938D-4EB0-8718-37B56193A8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4F7A-0FCC-4032-83D8-06B4C45598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C22-4E86-4320-89E4-73850FF2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5F2-55FE-48A1-A56E-89E58236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ED8-E00E-4784-9412-24182946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841-CBAA-479A-B02D-6021D702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65B-2209-4433-9CBB-BDA448B3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8D2-E904-4826-B244-6C0C623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D0AF-2586-49CD-B4E8-DA1E616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00FA-83CF-49B4-A05E-BAF1254C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AD05-8876-4746-B8BA-BAD952D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60E2-F361-4A7D-A780-9695B79B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2FBD-1D6C-43AD-BAAC-42E3F2E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8D4-E824-40EC-9AAF-B28A894C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9176-E6B4-46BC-AFF3-FB2465D7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E13-6224-4C6E-B849-ADAF4E1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B644-DD92-4C31-94B9-BC66AC01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A54B-0696-47C7-B9B2-65E72910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CDD4-B1F6-4525-8734-A5F9CB39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7FFF-4CCC-4414-9759-6E987F32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0649-74CA-47FB-A200-4508635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AF24-5EEA-4F95-B8EA-6E60F4A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5976-44E2-4688-A7F8-38C2A5B0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73C1-BE2A-4733-ABB4-0ADA2D3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F07-A08B-4A65-BA88-6F84E326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B28F-DC30-43B1-B135-FB13D6E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D888-67B5-4986-AF33-1E6DF98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05C5-F654-45B6-BD90-305F508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604A-10A0-42D9-8C88-8A66508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AC1E-7669-4096-BC16-0FA7DA8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48ED-B978-4EB9-9E03-CC1DD0FC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210E-6742-4423-81E2-0937135D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28A7-07C7-430B-8B17-22044FA2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FCDB-1BC1-40A6-9DD7-F60053E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E518-0C27-45F4-BC3C-5400558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2A8-A821-411E-85F5-3A58D8F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FF75-199C-4A09-9482-C6E8A6FE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DA0A-D5FA-4F63-B1BC-4FC71960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0658D-75F4-4D68-A412-7A2C1E6E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3416-E832-4BD9-A338-87C5F49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22FD-C4A8-401B-834D-C501A07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D678-80B2-4815-9E3F-D0F5803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9522-2A1F-455C-B517-2E817083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EC3D-A84B-4F77-954B-C3919D40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3F48-A823-425B-A407-C9BE81AC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C56-2905-41D5-ADEE-FF5DC29D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3BC-A8D4-486A-90CD-A8AE5FFD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346-FA36-4927-A370-724D06AB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263-0FEE-4BE2-80A4-70A641DC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93B-91BF-4823-8F2D-848F8DE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a93c93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EA99FB-7956-4FD0-9FEB-73B86FE19C34}" type="slidenum">
              <a:rPr b="0" lang="en-GB" sz="1300" spc="-1" strike="noStrike">
                <a:solidFill>
                  <a:srgbClr val="a93c9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10B61C-0445-42B5-A573-0B367FA34414}" type="slidenum">
              <a:rPr b="0" lang="en-GB" sz="13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035781-DE47-46D5-B534-381A3234F6F0}" type="slidenum">
              <a:rPr b="0" lang="en-GB" sz="13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a93c93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BAD150-6F0C-43E2-8E7A-02D88BF164B2}" type="slidenum">
              <a:rPr b="0" lang="en-GB" sz="1300" spc="-1" strike="noStrike">
                <a:solidFill>
                  <a:srgbClr val="a93c9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1968480" cy="7524720"/>
          </a:xfrm>
          <a:prstGeom prst="rect">
            <a:avLst/>
          </a:prstGeom>
          <a:ln w="72000">
            <a:solidFill>
              <a:srgbClr val="808080"/>
            </a:solidFill>
            <a:round/>
          </a:ln>
        </p:spPr>
      </p:pic>
      <p:sp>
        <p:nvSpPr>
          <p:cNvPr id="205" name="WordArt 2"/>
          <p:cNvSpPr txBox="1"/>
          <p:nvPr/>
        </p:nvSpPr>
        <p:spPr>
          <a:xfrm>
            <a:off x="0" y="6838920"/>
            <a:ext cx="162072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444044" dir="10542650" blurRad="0" rotWithShape="0">
                    <a:srgbClr val="ff8080">
                      <a:alpha val="40000"/>
                    </a:srgbClr>
                  </a:outerShdw>
                </a:effectLst>
                <a:latin typeface="Times New Roman"/>
              </a:rPr>
              <a:t>ИСТОРИЯ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444044" dir="10542650" blurRad="0" rotWithShape="0">
                  <a:srgbClr val="ff808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444044" dir="10542650" blurRad="0" rotWithShape="0">
                    <a:srgbClr val="ff8080">
                      <a:alpha val="40000"/>
                    </a:srgbClr>
                  </a:outerShdw>
                </a:effectLst>
                <a:latin typeface="Times New Roman"/>
              </a:rPr>
              <a:t>РОСС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444044" dir="10542650" blurRad="0" rotWithShape="0">
                  <a:srgbClr val="ff808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2160720" y="1440000"/>
            <a:ext cx="7380000" cy="52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080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Народные движения </a:t>
            </a:r>
            <a:endParaRPr b="0" lang="en-US" sz="1800" spc="1" strike="noStrike">
              <a:ln w="1080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080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первой четверти XVIII века</a:t>
            </a:r>
            <a:endParaRPr b="0" lang="en-US" sz="1800" spc="1" strike="noStrike">
              <a:ln w="1080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757647.058823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757647.058823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757647.058823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"/>
          <p:cNvSpPr/>
          <p:nvPr/>
        </p:nvSpPr>
        <p:spPr>
          <a:xfrm>
            <a:off x="0" y="900000"/>
            <a:ext cx="10080720" cy="6661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9640" y="95400"/>
            <a:ext cx="9070920" cy="59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Arial"/>
                <a:ea typeface="Lucida Sans Unicode"/>
              </a:rPr>
              <a:t>5.Выступления работных люд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WordArt 3"/>
          <p:cNvSpPr txBox="1"/>
          <p:nvPr/>
        </p:nvSpPr>
        <p:spPr>
          <a:xfrm>
            <a:off x="1619280" y="1079640"/>
            <a:ext cx="72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1720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900000" y="2700360"/>
            <a:ext cx="450072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Тяжелые усло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тру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3903840" y="4680000"/>
            <a:ext cx="491616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ногомесяч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отрыв от семь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539640" y="128520"/>
            <a:ext cx="9070920" cy="52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  <a:ea typeface="Lucida Sans Unicode"/>
              </a:rPr>
              <a:t>6.Значение народных выступл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0" y="900000"/>
            <a:ext cx="10080720" cy="6661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WordArt 3"/>
          <p:cNvSpPr txBox="1"/>
          <p:nvPr/>
        </p:nvSpPr>
        <p:spPr>
          <a:xfrm>
            <a:off x="539640" y="1440000"/>
            <a:ext cx="9180720" cy="54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80047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Заставили власть изменять сво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80047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80047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литику в отношении раз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80047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80047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80047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лоев насе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80047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1"/>
          <p:cNvSpPr/>
          <p:nvPr/>
        </p:nvSpPr>
        <p:spPr>
          <a:xfrm>
            <a:off x="0" y="0"/>
            <a:ext cx="10080720" cy="755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468360" y="306360"/>
            <a:ext cx="90709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Продолжите фразу : «Астраханское восстание произошло в ...... гг.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1260360" y="3002040"/>
            <a:ext cx="7201080" cy="31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705-1706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1"/>
          <p:cNvSpPr/>
          <p:nvPr/>
        </p:nvSpPr>
        <p:spPr>
          <a:xfrm>
            <a:off x="0" y="0"/>
            <a:ext cx="10080720" cy="755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539640" y="95076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Самое массовое восстание   первой четверти XVIII века – это восстание под предводительством .....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3"/>
          <p:cNvSpPr txBox="1"/>
          <p:nvPr/>
        </p:nvSpPr>
        <p:spPr>
          <a:xfrm>
            <a:off x="2700360" y="4140360"/>
            <a:ext cx="6480000" cy="27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Кондрат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Булав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1"/>
          <p:cNvSpPr/>
          <p:nvPr/>
        </p:nvSpPr>
        <p:spPr>
          <a:xfrm>
            <a:off x="0" y="0"/>
            <a:ext cx="10080720" cy="755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Мощное выступление в Башкирии произошло из-за оскорбления ......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2340000" y="3801960"/>
            <a:ext cx="59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ациональных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религиозных чувст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1"/>
          <p:cNvSpPr/>
          <p:nvPr/>
        </p:nvSpPr>
        <p:spPr>
          <a:xfrm>
            <a:off x="0" y="0"/>
            <a:ext cx="10080720" cy="755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.На протяжении всего царствования Петра Первого имели место выступления .......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WordArt 3"/>
          <p:cNvSpPr txBox="1"/>
          <p:nvPr/>
        </p:nvSpPr>
        <p:spPr>
          <a:xfrm>
            <a:off x="1800360" y="4500720"/>
            <a:ext cx="5940360" cy="28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тарообряд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1"/>
          <p:cNvSpPr/>
          <p:nvPr/>
        </p:nvSpPr>
        <p:spPr>
          <a:xfrm>
            <a:off x="0" y="0"/>
            <a:ext cx="10080720" cy="755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.Новым явлением в истории России в первой четверти XVIII века были выступления.....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1619280" y="4500720"/>
            <a:ext cx="7020000" cy="26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Работных люд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1"/>
          <p:cNvSpPr/>
          <p:nvPr/>
        </p:nvSpPr>
        <p:spPr>
          <a:xfrm>
            <a:off x="0" y="900000"/>
            <a:ext cx="10080720" cy="6661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9497880" cy="981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8760" indent="-3240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b80047"/>
                </a:solidFill>
                <a:latin typeface="Arial"/>
                <a:ea typeface="Arial"/>
              </a:rPr>
              <a:t>§ 17, </a:t>
            </a:r>
            <a:r>
              <a:rPr b="1" lang="ru-RU" sz="6000" spc="-1" strike="noStrike">
                <a:solidFill>
                  <a:srgbClr val="b80047"/>
                </a:solidFill>
                <a:latin typeface="Arial"/>
                <a:ea typeface="Arial"/>
              </a:rPr>
              <a:t>заполнить таблицу в тетр.</a:t>
            </a:r>
            <a:r>
              <a:rPr b="1" lang="en-GB" sz="6000" spc="-1" strike="noStrike">
                <a:solidFill>
                  <a:srgbClr val="b80047"/>
                </a:solidFill>
                <a:latin typeface="Arial"/>
                <a:ea typeface="Arial"/>
              </a:rPr>
              <a:t>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b80047"/>
                </a:solidFill>
                <a:latin typeface="Arial"/>
                <a:ea typeface="Arial"/>
              </a:rPr>
              <a:t>новые слова, документ  с.13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8604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852f74"/>
                </a:solidFill>
                <a:latin typeface="Calibri"/>
              </a:rPr>
              <a:t>Проверка знаний </a:t>
            </a:r>
            <a:endParaRPr b="0" lang="en-US" sz="6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3280" y="1564920"/>
            <a:ext cx="9074160" cy="56437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5e0e5"/>
              </a:gs>
            </a:gsLst>
            <a:lin ang="5400000"/>
          </a:gradFill>
          <a:ln w="9360">
            <a:solidFill>
              <a:srgbClr val="002060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нежная единица какой-либо страны - </a:t>
            </a:r>
            <a:r>
              <a:rPr b="1" i="1" lang="ru-RU" sz="2400" spc="-1" strike="noStrike">
                <a:solidFill>
                  <a:srgbClr val="0070c0"/>
                </a:solidFill>
                <a:latin typeface="Constantia"/>
                <a:ea typeface="Angsana New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ддержка развития отечественной промышленности, особенно мануфактурной, и вывоз товаров за границу – </a:t>
            </a:r>
            <a:r>
              <a:rPr b="1" i="1" lang="ru-RU" sz="2400" spc="-1" strike="noStrike">
                <a:solidFill>
                  <a:srgbClr val="0070c0"/>
                </a:solidFill>
                <a:latin typeface="Constantia"/>
              </a:rPr>
              <a:t>протекциониз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обладание вывоза товаров из страны над ввозом с целью концентрации денежных средств внутри страны – </a:t>
            </a:r>
            <a:r>
              <a:rPr b="1" i="1" lang="ru-RU" sz="2400" spc="-1" strike="noStrike">
                <a:solidFill>
                  <a:srgbClr val="0070c0"/>
                </a:solidFill>
                <a:latin typeface="Constantia"/>
              </a:rPr>
              <a:t>меркантилиз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новной прямой налог, взимавшийся с мужского населения податных сословий, вне зависимости от возраста –</a:t>
            </a:r>
            <a:r>
              <a:rPr b="1" i="1" lang="ru-RU" sz="2400" spc="-1" strike="noStrike">
                <a:solidFill>
                  <a:srgbClr val="0070c0"/>
                </a:solidFill>
                <a:latin typeface="Constantia"/>
              </a:rPr>
              <a:t> подушная под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ворцовые крестьяне, которые вместо уплаты подати должны были работать на казенных или частных заводах, т.е. были прикреплены (приписаны) к ним – </a:t>
            </a:r>
            <a:r>
              <a:rPr b="1" i="1" lang="ru-RU" sz="2400" spc="-1" strike="noStrike">
                <a:solidFill>
                  <a:srgbClr val="0070c0"/>
                </a:solidFill>
                <a:latin typeface="Constantia"/>
              </a:rPr>
              <a:t>приписные крестья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577e24"/>
              </a:gs>
              <a:gs pos="100000">
                <a:srgbClr val="ffffff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  </a:t>
            </a:r>
            <a:r>
              <a:rPr b="1" i="1" lang="en-GB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Как вы думаете</a:t>
            </a:r>
            <a:r>
              <a:rPr b="1" i="1" lang="ru-RU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,</a:t>
            </a:r>
            <a:r>
              <a:rPr b="1" i="1" lang="en-GB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  </a:t>
            </a:r>
            <a:r>
              <a:rPr b="1" i="1" lang="en-GB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могут  ли быт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  </a:t>
            </a:r>
            <a:r>
              <a:rPr b="1" i="1" lang="en-GB" sz="4800" spc="-1" strike="noStrike">
                <a:solidFill>
                  <a:srgbClr val="660066"/>
                </a:solidFill>
                <a:latin typeface="Arial"/>
                <a:ea typeface="Lucida Sans Unicode"/>
              </a:rPr>
              <a:t>сходными причины народных движений XVII и 1-ой  четверти XVIII век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19964" t="9971" r="19964" b="9971"/>
          <a:stretch/>
        </p:blipFill>
        <p:spPr>
          <a:xfrm>
            <a:off x="7203960" y="360360"/>
            <a:ext cx="2516400" cy="3290760"/>
          </a:xfrm>
          <a:prstGeom prst="rect">
            <a:avLst/>
          </a:prstGeom>
          <a:ln w="72000">
            <a:solidFill>
              <a:srgbClr val="800080"/>
            </a:solidFill>
            <a:prstDash val="sysDot"/>
            <a:round/>
          </a:ln>
        </p:spPr>
      </p:pic>
      <p:sp>
        <p:nvSpPr>
          <p:cNvPr id="211" name="WordArt 3"/>
          <p:cNvSpPr txBox="1"/>
          <p:nvPr/>
        </p:nvSpPr>
        <p:spPr>
          <a:xfrm>
            <a:off x="179280" y="179280"/>
            <a:ext cx="43196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06b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«КОРЗ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006b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06b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НЕНИЙ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006b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4140360" y="720720"/>
            <a:ext cx="41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0" y="1079640"/>
            <a:ext cx="10080720" cy="6480000"/>
          </a:xfrm>
          <a:prstGeom prst="rect">
            <a:avLst/>
          </a:prstGeom>
          <a:gradFill rotWithShape="0">
            <a:gsLst>
              <a:gs pos="0">
                <a:srgbClr val="577e24"/>
              </a:gs>
              <a:gs pos="100000">
                <a:srgbClr val="ffffff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6b0094"/>
                </a:solidFill>
                <a:latin typeface="Arial"/>
                <a:ea typeface="Lucida Sans Unicode"/>
              </a:rPr>
              <a:t>1.Астраханское восстание.(с.131-13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6b0094"/>
                </a:solidFill>
                <a:latin typeface="Arial"/>
                <a:ea typeface="Lucida Sans Unicode"/>
              </a:rPr>
              <a:t>2.Восстание Кондратия Булавина.(с.133,13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6b0094"/>
                </a:solidFill>
                <a:latin typeface="Arial"/>
                <a:ea typeface="Lucida Sans Unicode"/>
              </a:rPr>
              <a:t>3.Башкирское восстание.(с.13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6b0094"/>
                </a:solidFill>
                <a:latin typeface="Arial"/>
                <a:ea typeface="Lucida Sans Unicode"/>
              </a:rPr>
              <a:t>4. Религиозные выступления.(с.134,13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6b0094"/>
                </a:solidFill>
                <a:latin typeface="Arial"/>
                <a:ea typeface="Lucida Sans Unicode"/>
              </a:rPr>
              <a:t>5. Выступления работных людей.(135,13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6b0094"/>
                </a:solidFill>
                <a:latin typeface="Arial"/>
                <a:ea typeface="Lucida Sans Unicode"/>
              </a:rPr>
              <a:t>6.Значение народных выступл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3200" indent="-298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03200"/>
                <a:tab algn="l" pos="851040"/>
                <a:tab algn="l" pos="1300320"/>
                <a:tab algn="l" pos="1749600"/>
                <a:tab algn="l" pos="2198520"/>
                <a:tab algn="l" pos="2647800"/>
                <a:tab algn="l" pos="3097080"/>
                <a:tab algn="l" pos="3546360"/>
                <a:tab algn="l" pos="3995640"/>
                <a:tab algn="l" pos="4444920"/>
                <a:tab algn="l" pos="4894200"/>
                <a:tab algn="l" pos="5343480"/>
                <a:tab algn="l" pos="5792760"/>
                <a:tab algn="l" pos="6242040"/>
                <a:tab algn="l" pos="6691320"/>
                <a:tab algn="l" pos="7140600"/>
                <a:tab algn="l" pos="7589880"/>
                <a:tab algn="l" pos="8039160"/>
                <a:tab algn="l" pos="8488440"/>
                <a:tab algn="l" pos="8937720"/>
                <a:tab algn="l" pos="9387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865080" y="-115920"/>
            <a:ext cx="8358120" cy="10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lIns="0" rIns="0" tIns="504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52f74"/>
                </a:solidFill>
                <a:latin typeface="Calibri"/>
              </a:rPr>
              <a:t>Задание</a:t>
            </a:r>
            <a:endParaRPr b="0" lang="en-US" sz="8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3280" y="2133360"/>
            <a:ext cx="9074160" cy="483876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очитать тек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пределить дату востан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ыделить причины восстан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частни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од восстан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тог восстан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539640" y="61920"/>
            <a:ext cx="907092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  <a:ea typeface="Lucida Sans Unicode"/>
              </a:rPr>
              <a:t>1. Астраханское восс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6840720"/>
          </a:xfrm>
          <a:prstGeom prst="rect">
            <a:avLst/>
          </a:prstGeom>
          <a:ln w="72000">
            <a:solidFill>
              <a:srgbClr val="808000"/>
            </a:solidFill>
            <a:round/>
          </a:ln>
        </p:spPr>
      </p:pic>
      <p:sp>
        <p:nvSpPr>
          <p:cNvPr id="219" name="WordArt 3"/>
          <p:cNvSpPr txBox="1"/>
          <p:nvPr/>
        </p:nvSpPr>
        <p:spPr>
          <a:xfrm>
            <a:off x="1619280" y="1079640"/>
            <a:ext cx="72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705-1706 г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320760" y="3081240"/>
            <a:ext cx="400032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80047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епомерные по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80047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80047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 взятки вое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80047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4500720" y="2708280"/>
            <a:ext cx="5276520" cy="35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06b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асильстве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006b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06b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выполнение ука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006b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06b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об обрезании б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006b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06b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 плать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006b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34920" y="900000"/>
            <a:ext cx="10045800" cy="6661440"/>
          </a:xfrm>
          <a:prstGeom prst="rect">
            <a:avLst/>
          </a:prstGeom>
          <a:ln w="72000">
            <a:solidFill>
              <a:srgbClr val="808000"/>
            </a:solidFill>
            <a:round/>
          </a:ln>
        </p:spPr>
      </p:pic>
      <p:sp>
        <p:nvSpPr>
          <p:cNvPr id="223" name="Text Box 2"/>
          <p:cNvSpPr/>
          <p:nvPr/>
        </p:nvSpPr>
        <p:spPr>
          <a:xfrm>
            <a:off x="539640" y="100080"/>
            <a:ext cx="907092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Arial"/>
                <a:ea typeface="Lucida Sans Unicode"/>
              </a:rPr>
              <a:t>2. Восстание Кондратия Булав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3"/>
          <p:cNvSpPr txBox="1"/>
          <p:nvPr/>
        </p:nvSpPr>
        <p:spPr>
          <a:xfrm>
            <a:off x="1619280" y="1079640"/>
            <a:ext cx="72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707-1708 г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179280" y="2700360"/>
            <a:ext cx="4500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пытки огранич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казачье самоупр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500720" y="2347920"/>
            <a:ext cx="527652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ринудите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спользование люд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а строитель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2824200" y="5219640"/>
            <a:ext cx="52768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стоянные экспеди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 розыску беглых крест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6661440"/>
          </a:xfrm>
          <a:prstGeom prst="rect">
            <a:avLst/>
          </a:prstGeom>
          <a:ln w="72000">
            <a:solidFill>
              <a:srgbClr val="808000"/>
            </a:solidFill>
            <a:round/>
          </a:ln>
        </p:spPr>
      </p:pic>
      <p:sp>
        <p:nvSpPr>
          <p:cNvPr id="229" name="Text Box 2"/>
          <p:cNvSpPr/>
          <p:nvPr/>
        </p:nvSpPr>
        <p:spPr>
          <a:xfrm>
            <a:off x="539640" y="95400"/>
            <a:ext cx="9070920" cy="59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Arial"/>
                <a:ea typeface="Lucida Sans Unicode"/>
              </a:rPr>
              <a:t>3.Башкирское восстание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1619280" y="1079640"/>
            <a:ext cx="72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705-1711 г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179280" y="2700360"/>
            <a:ext cx="450072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Введение нов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а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4859280" y="2879640"/>
            <a:ext cx="491652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ризыв на воинску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cc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лужб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cc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WordArt 6"/>
          <p:cNvSpPr txBox="1"/>
          <p:nvPr/>
        </p:nvSpPr>
        <p:spPr>
          <a:xfrm>
            <a:off x="1979640" y="5219640"/>
            <a:ext cx="611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7b8b8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Оскорбление национа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7b8b8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7b8b8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 религиозных чувст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7b8b8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96840" y="900000"/>
            <a:ext cx="9982080" cy="6661440"/>
          </a:xfrm>
          <a:prstGeom prst="rect">
            <a:avLst/>
          </a:prstGeom>
          <a:ln w="72000">
            <a:solidFill>
              <a:srgbClr val="808000"/>
            </a:solidFill>
            <a:round/>
          </a:ln>
        </p:spPr>
      </p:pic>
      <p:sp>
        <p:nvSpPr>
          <p:cNvPr id="235" name="Text Box 2"/>
          <p:cNvSpPr/>
          <p:nvPr/>
        </p:nvSpPr>
        <p:spPr>
          <a:xfrm>
            <a:off x="539640" y="95400"/>
            <a:ext cx="9070920" cy="59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77e24"/>
              </a:gs>
            </a:gsLst>
            <a:lin ang="16200000"/>
          </a:gradFill>
          <a:ln w="7200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Arial"/>
                <a:ea typeface="Lucida Sans Unicode"/>
              </a:rPr>
              <a:t>4.Религиозные выступления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3"/>
          <p:cNvSpPr txBox="1"/>
          <p:nvPr/>
        </p:nvSpPr>
        <p:spPr>
          <a:xfrm>
            <a:off x="1619280" y="1079640"/>
            <a:ext cx="72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689-1725 г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79280" y="2700360"/>
            <a:ext cx="450072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Установление податей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войном разме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4859280" y="2879640"/>
            <a:ext cx="491652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Запрет избира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а обществен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ол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1619280" y="5759280"/>
            <a:ext cx="611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Указ одеваться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33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елепую одеж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33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DNA7 X86</cp:lastModifiedBy>
  <dcterms:modified xsi:type="dcterms:W3CDTF">2012-03-06T22:14:16Z</dcterms:modified>
  <cp:revision>10</cp:revision>
  <dc:subject/>
  <dc:title>Слайд 1</dc:title>
</cp:coreProperties>
</file>