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8416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0240" y="4588200"/>
            <a:ext cx="8416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30240" y="458820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43400" y="458820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6040" y="21013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2200" y="21013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0240" y="458820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6040" y="458820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2200" y="458820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30240" y="2101320"/>
            <a:ext cx="8416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8416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30312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30240" y="458820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43400" y="458820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3024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400" y="21013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0240" y="4588200"/>
            <a:ext cx="8416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3960" cy="7559640"/>
          </a:xfrm>
          <a:custGeom>
            <a:avLst/>
            <a:gdLst>
              <a:gd name="textAreaLeft" fmla="*/ 360 w 453960"/>
              <a:gd name="textAreaRight" fmla="*/ 453600 w 4539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59429">
                <a:moveTo>
                  <a:pt x="75" y="0"/>
                </a:moveTo>
                <a:arcTo wR="75" hR="75" stAng="16200000" swAng="-5400000"/>
                <a:lnTo>
                  <a:pt x="0" y="359354"/>
                </a:lnTo>
                <a:arcTo wR="75" hR="75" stAng="10800000" swAng="-5400000"/>
                <a:lnTo>
                  <a:pt x="21525" y="359429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30240" y="2101320"/>
            <a:ext cx="8416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3333"/>
                </a:solidFill>
                <a:latin typeface="Arial"/>
              </a:rPr>
              <a:t>Решите устно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929880" y="1839600"/>
            <a:ext cx="841860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ahoma"/>
              </a:rPr>
              <a:t>1) Раскрыть скобки и привести подобные слагаемые: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Tahoma"/>
              </a:rPr>
              <a:t>а) 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5a-(a-4)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б) (6a-7)+3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в) 2(a-4)-(2a+4)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2) Найти ошибку: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а) 2(a+5)=10 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б) 2x+7=x-4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2a+5=10 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2x+x=-4-7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3) Раскрыть модуль: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I-8I=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I0I= 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I2-3I= 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|a|=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I5I=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I3-2I=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I-2I*I-8I=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4) Решить уравнения: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2x-5=x+3 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5(x-10)=25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6x+4=28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|x|=5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5=x-4 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99284c"/>
                </a:solidFill>
                <a:latin typeface="Arial"/>
                <a:ea typeface="Arial"/>
              </a:rPr>
              <a:t>|x-2|=6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41400" y="360360"/>
            <a:ext cx="860904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600"/>
            </a:br>
            <a:br>
              <a:rPr sz="6600"/>
            </a:br>
            <a:r>
              <a:rPr b="0" lang="en-GB" sz="6600" spc="-1" strike="noStrike">
                <a:solidFill>
                  <a:srgbClr val="4700b8"/>
                </a:solidFill>
                <a:latin typeface="Arial"/>
              </a:rPr>
              <a:t>А)</a:t>
            </a:r>
            <a:r>
              <a:rPr b="0" lang="en-GB" sz="6600" spc="-1" strike="noStrike">
                <a:solidFill>
                  <a:srgbClr val="4700b8"/>
                </a:solidFill>
                <a:latin typeface="Arial"/>
                <a:ea typeface="Arial"/>
              </a:rPr>
              <a:t>|x-7|=3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GB" sz="6600" spc="-1" strike="noStrike">
                <a:solidFill>
                  <a:srgbClr val="4700b8"/>
                </a:solidFill>
                <a:latin typeface="Arial"/>
                <a:ea typeface="Arial"/>
              </a:rPr>
              <a:t>Б) |x|=x+3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ff"/>
                </a:solidFill>
                <a:latin typeface="Arial"/>
              </a:rPr>
              <a:t>Алгоритм решения уравнений с модулем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ff0000"/>
                </a:solidFill>
                <a:latin typeface="Arial"/>
                <a:ea typeface="Tahoma"/>
              </a:rPr>
              <a:t>1. Раскрыть модуль, пользуясь определением.</a:t>
            </a: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ff0000"/>
                </a:solidFill>
                <a:latin typeface="Arial"/>
                <a:ea typeface="Tahoma"/>
              </a:rPr>
              <a:t>2. Решить полученные уравнения.</a:t>
            </a: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ff0000"/>
                </a:solidFill>
                <a:latin typeface="Arial"/>
                <a:ea typeface="Tahoma"/>
              </a:rPr>
              <a:t>3. Сделать проверку.</a:t>
            </a: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-3833640"/>
            <a:ext cx="8609040" cy="95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r>
              <a:rPr b="1" lang="en-GB" sz="9600" spc="-1" strike="noStrike">
                <a:solidFill>
                  <a:srgbClr val="99284c"/>
                </a:solidFill>
                <a:latin typeface="Arial"/>
                <a:ea typeface="Arial"/>
              </a:rPr>
              <a:t>|2x-5|=2-x</a:t>
            </a:r>
            <a:br>
              <a:rPr sz="9600"/>
            </a:br>
            <a:endParaRPr b="1" i="1" lang="en-US" sz="9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47ff"/>
                </a:solidFill>
                <a:latin typeface="Arial"/>
              </a:rPr>
              <a:t>Выбери уравнение и реши его по алгоритму: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29880" y="210168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ae00"/>
                </a:solidFill>
                <a:latin typeface="Arial"/>
              </a:rPr>
              <a:t>а) </a:t>
            </a:r>
            <a:r>
              <a:rPr b="0" lang="en-GB" sz="6000" spc="-1" strike="noStrike">
                <a:solidFill>
                  <a:srgbClr val="00ae00"/>
                </a:solidFill>
                <a:latin typeface="Arial"/>
                <a:ea typeface="Arial"/>
              </a:rPr>
              <a:t>l3x+6|=9 – 4 балла</a:t>
            </a:r>
            <a:endParaRPr b="0" lang="en-US" sz="6000" spc="-1" strike="noStrike">
              <a:solidFill>
                <a:srgbClr val="99284c"/>
              </a:solidFill>
              <a:latin typeface="Arial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99284c"/>
              </a:solidFill>
              <a:latin typeface="Arial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99284c"/>
              </a:solidFill>
              <a:latin typeface="Arial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ae00"/>
                </a:solidFill>
                <a:latin typeface="Arial"/>
                <a:ea typeface="Arial"/>
              </a:rPr>
              <a:t>б) |5x-2|=x  - 5 баллов</a:t>
            </a:r>
            <a:endParaRPr b="0" lang="en-US" sz="6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29880" y="1522080"/>
            <a:ext cx="841860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</a:rPr>
              <a:t>а) 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|3x-6|=9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3x+6=9 или 3x+6=-9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3x=9-6  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3x=-9-6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3x=3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3x=-15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x=1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x=-5  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Ответ: 1; -5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б) |5x-2|=x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5x-2=x или 5x-2=-x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5х-х=2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5х+х=2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4х=2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6х=2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х=½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х=⅓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Ответ: ½; ⅓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280099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Почему выбрали такое уравнение?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Где испытываете затруднения?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29880" y="1747800"/>
            <a:ext cx="841860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Выбери и реши любые два уравнения: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|2x-8|=5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б) |x|=-3x+5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в) |5-|x-2||=4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