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476C0-6AE0-4551-AB94-2AF88976C0B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E9290-A92F-4EAB-A875-75A9AB0C7D1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F91C-D05F-4374-87CD-1B949CAE5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0AF1-C330-4EFF-9357-1C9DE38EB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0656-69FE-4CE5-A5B4-C227C36F7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AD7B-6889-4B47-87CF-59C01473A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82DA1-E4A8-40A0-B6F4-BA52D0144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43F25-8376-4EC5-8353-5E86AE414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B45A9-1D0F-4C57-8E7D-0531F1667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BCE68-43E5-4232-AD20-CB2BBF67B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C12FE-E546-4CE6-AA97-E7B7F373B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1D3AA-EEB7-4C97-83FB-78C0EEC0C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59F38-5202-4212-A455-D185D1E4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025F-F661-4505-9200-A3E9A041B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769D7-BC45-4B47-8B1A-A72279A8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B7B77-CF80-4278-A2E4-8984BAD2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CC3DA-C7D7-4800-9464-C43C7BADB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7477B-BF9B-4A1C-B283-54C851985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3F9FB-C92B-4528-A9F6-5CD126CBD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8D3B-8557-4D14-BE51-D2EA431A5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6650-A812-429D-A561-5EA364AEA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650E-76F9-4BD3-9FBD-9CD2DBE50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FBB7-31DB-4962-BEB7-85EC7EBDA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453E-C8FA-4A88-A10A-9A2E7BA1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9F03-DCF5-4ADB-936E-EE8BA997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B853-4758-4C74-8990-3CD768F3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35B20-8321-40F0-AE72-9F6160E5EA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5750C-C938-491A-9416-C581E97EA6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922680"/>
            <a:ext cx="77724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56800" y="2714400"/>
            <a:ext cx="7286760" cy="32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Рефлекс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2143080" y="1643040"/>
            <a:ext cx="4429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Домашнее задание: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000080"/>
            <a:ext cx="822960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а «4»- упр. 150(1,2 части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а «5» – упр. 150(1,2ч.) и упр.152 или 159 по выбору, приготовить сообщен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5" descr=""/>
          <p:cNvPicPr/>
          <p:nvPr/>
        </p:nvPicPr>
        <p:blipFill>
          <a:blip r:embed="rId1"/>
          <a:stretch/>
        </p:blipFill>
        <p:spPr>
          <a:xfrm>
            <a:off x="2428920" y="2857680"/>
            <a:ext cx="342900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Спасибо за урок!</a:t>
            </a:r>
            <a:endParaRPr b="1" lang="en-US" sz="6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2071800" y="2071800"/>
            <a:ext cx="507204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Тема: Употребление   дефиса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Вспомнить изученные правила по тем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Научиться качественно применять это и другие правила в ходе практических работ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Учиться организовывать свою работу на урок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 Проявить свои способности, возможност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лан работы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ексико- орфографическая работ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вторение правил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крепление знаний этого и других правил через выполнение практических задани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дведение итогов уро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ценивани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роверка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Хронология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хроника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хронометр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хроникёр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хронологический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хронометраж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хроникальны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Игра «Найди пару»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07172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Хронология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историческое описание событий в хронологическом порядк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Хроника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сотрудник газеты, доставляющий материалы для хроник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Хронометр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наука об измерении времен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Хроникёр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пружинные часы тщательной выделки, предназначенные служить для точного определения промежутков времен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равильно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Хронология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-наука об измерении времен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Хроника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- историческое описание событий в хронологической последовательност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Хронометр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- пружинные часы тщательной выделки, предназначенные служить для точного определения промежутков времен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Хроникёр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– сотрудник газеты, доставлябщий материал для хроники.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«Бабье лето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428760" y="1428840"/>
            <a:ext cx="8001000" cy="471492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5"/>
          <p:cNvSpPr/>
          <p:nvPr/>
        </p:nvSpPr>
        <p:spPr>
          <a:xfrm>
            <a:off x="5000760" y="1785960"/>
            <a:ext cx="30002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a1000"/>
                </a:solidFill>
                <a:latin typeface="Arial"/>
                <a:ea typeface="Times New Roman"/>
              </a:rPr>
              <a:t>ярко(жёлтые), юго(западный), голубовато(дымчатый)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a1000"/>
                </a:solidFill>
                <a:latin typeface="Arial"/>
                <a:ea typeface="Times New Roman"/>
              </a:rPr>
              <a:t>из(под), пол(неба), какой(нибудь), паутинки(самолётики</a:t>
            </a:r>
            <a:r>
              <a:rPr b="0" lang="ru-RU" sz="1800" spc="-1" strike="noStrike">
                <a:solidFill>
                  <a:srgbClr val="2a1000"/>
                </a:solidFill>
                <a:latin typeface="Arial"/>
                <a:ea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Диктант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 бело(голубой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 ближне(восточный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 агро(промышленный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 жаро(понижающий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 зимне(осенний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 изба(читальня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 кисло(сладкий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 кое(что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 с кем(нибудь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 пол(лимон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 северо(западный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Выборочный диктант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з- за,   иссиня- белый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юго- западные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шахматно- шашечную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ледно- васильковую, алма- атинским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л- избы, караван- сарай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ой- то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0T16:09:21Z</dcterms:created>
  <dc:creator>Пользователь</dc:creator>
  <dc:description/>
  <dc:language>en-US</dc:language>
  <cp:lastModifiedBy>Пользователь</cp:lastModifiedBy>
  <dcterms:modified xsi:type="dcterms:W3CDTF">2011-10-21T01:42:41Z</dcterms:modified>
  <cp:revision>12</cp:revision>
  <dc:subject/>
  <dc:title>Слайд 1</dc:title>
</cp:coreProperties>
</file>